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3F62-F8BF-4B64-8D0F-F5E74DC456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18 elements are called the noble g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rarely combine with other elements and are found only as uncombined elements in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reactivity is very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18 elements are called the noble g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rarely combine with other elements and are found only as uncombined elements in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reactivity is very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ess dense than air, so it’s great for all kinds of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balloons lift instruments into the upper atmosphere to measure atmospheric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ess dense than air, so it’s great for all kinds of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balloons lift instruments into the upper atmosphere to measure atmospheric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neon” lights you see in advertising signs can contain any of the noble gases, not just ne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passed through the glass tubes that make up the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neon” lights you see in advertising signs can contain any of the noble gases, not just ne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passed through the glass tubes that make up the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causes the gas to g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ble gas produces a uniqu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glows yellow, neon glows red-orange, and argon produces a bluish-violet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causes the gas to g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ble gas produces a uniqu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glows yellow, neon glows red-orange, and argon produces a bluish-violet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, the most abundant of the noble gases on Earth, was first found in 189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is used with nitrogen in ordinary lightbulbs because these gases keep the glowing filament from burning 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lights are used to illuminate landing strips at airports, and xenon is used in strobe lights and was once used in photographic flash c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, the most abundant of the noble gases on Earth, was first found in 189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is used with nitrogen in ordinary lightbulbs because these gases keep the glowing filament from burning 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lights are used to illuminate landing strips at airports, and xenon is used in strobe lights and was once used in photographic flash c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ttom of the group is radon, a radioactive gas produced naturally as uranium decays in rocks and s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adon seeps into a home, the gas can be harmful because it continues to emit ra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eople breathe the gas over a period of time, it can cause lung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ttom of the group is radon, a radioactive gas produced naturally as uranium decays in rocks and s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adon seeps into a home, the gas can be harmful because it continues to emit ra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eople breathe the gas over a period of time, it can cause lung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/0 –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All of the noble gases have a full outer shell, so they are very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all have low melting and boil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exist as single atoms rather then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ighter then air and is used in balloons and airships (as well as for talking in a silly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 is used in light bulbs (because it is so unreactive) and argon , krypton and neon are used in fanc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/0 –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All of the noble gases have a full outer shell, so they are very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all have low melting and boil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exist as single atoms rather then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ighter then air and is used in balloons and airships (as well as for talking in a silly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 is used in light bulbs (because it is so unreactive) and argon , krypton and neon are used in fanc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97F-F343-4189-B830-CF46B989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2F6-ABD1-41AE-9674-00E023DE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5E1-AB89-4B5C-B162-40BE2887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531-5ED8-4B13-971C-83DAA687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4E6-3A03-42A7-955F-D7BBF01B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F9E3-E59D-4D16-AB29-0E04FA44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18D-832B-4669-9EF6-A5F74AA3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3C6-D1FD-4F37-B0A4-16B057BE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233-587A-4377-BB67-2B609660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785-AE75-4966-89B8-A4876FB9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36C-4BC6-410E-A591-389D09D1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2BA-C2EA-44E0-82E3-693A2153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CD7C-6753-4A50-B721-B158B1E32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oble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18 elements are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ble ga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174760"/>
            <a:ext cx="38098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because they rarely combine with other elements and are found only as uncombined elements in na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4952880"/>
            <a:ext cx="38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ir reactivity is very 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41"/>
          <p:cNvPicPr/>
          <p:nvPr/>
        </p:nvPicPr>
        <p:blipFill>
          <a:blip r:embed="rId1"/>
          <a:stretch/>
        </p:blipFill>
        <p:spPr>
          <a:xfrm>
            <a:off x="4886280" y="1828800"/>
            <a:ext cx="3419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660680"/>
            <a:ext cx="3276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is less dense than air, so it’s great for all kinds of ballo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2 helium balloons"/>
          <p:cNvPicPr/>
          <p:nvPr/>
        </p:nvPicPr>
        <p:blipFill>
          <a:blip r:embed="rId1"/>
          <a:stretch/>
        </p:blipFill>
        <p:spPr>
          <a:xfrm>
            <a:off x="3971880" y="1389240"/>
            <a:ext cx="4444920" cy="2857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33520" y="43848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balloons lift instruments into the upper atmosphere to measure atmospheric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im42 helium balloons"/>
          <p:cNvPicPr/>
          <p:nvPr/>
        </p:nvPicPr>
        <p:blipFill>
          <a:blip r:embed="rId1"/>
          <a:stretch/>
        </p:blipFill>
        <p:spPr>
          <a:xfrm>
            <a:off x="3971880" y="1389240"/>
            <a:ext cx="4444920" cy="28573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6"/>
          <p:cNvGrpSpPr/>
          <p:nvPr/>
        </p:nvGrpSpPr>
        <p:grpSpPr>
          <a:xfrm>
            <a:off x="533520" y="1676520"/>
            <a:ext cx="5700600" cy="3157920"/>
            <a:chOff x="533520" y="1676520"/>
            <a:chExt cx="5700600" cy="3157920"/>
          </a:xfrm>
        </p:grpSpPr>
        <p:sp>
          <p:nvSpPr>
            <p:cNvPr id="67" name="Text Box 7"/>
            <p:cNvSpPr/>
            <p:nvPr/>
          </p:nvSpPr>
          <p:spPr>
            <a:xfrm>
              <a:off x="533520" y="1676520"/>
              <a:ext cx="335268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ven though hydrogen is lighter than helium, helium is preferred for these purpos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884160" y="4302000"/>
              <a:ext cx="53499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cause helium will not bur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33520" y="1523880"/>
            <a:ext cx="35812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neon” lights you see in advertising signs can contain any of the noble gases, not just ne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4518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passed through the glass tubes that make up the 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im43 neon sign"/>
          <p:cNvPicPr/>
          <p:nvPr/>
        </p:nvPicPr>
        <p:blipFill>
          <a:blip r:embed="rId1"/>
          <a:stretch/>
        </p:blipFill>
        <p:spPr>
          <a:xfrm>
            <a:off x="4183200" y="17254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33520" y="1523880"/>
            <a:ext cx="3657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icity causes the gas to g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3520" y="3089160"/>
            <a:ext cx="3581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noble gas produces a unique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33520" y="47466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glows yellow, neon glows red-orange, and argon produces a bluish-violet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im43 neon sign"/>
          <p:cNvPicPr/>
          <p:nvPr/>
        </p:nvPicPr>
        <p:blipFill>
          <a:blip r:embed="rId1"/>
          <a:stretch/>
        </p:blipFill>
        <p:spPr>
          <a:xfrm>
            <a:off x="4183200" y="17254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13082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gon, the most abundant of the noble gases on Earth, was first found in 18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3520" y="23115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pton is used with nitrogen in ordinary lightbulbs because these gases keep the glowing filament from burning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20" y="37591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pton lights are used to illuminate landing strips at airports, and xenon is used in strobe lights and was once used in photographic flash cub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143496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the bottom of the group is radon, a radioactive gas produced naturally as uranium decays in rocks and s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3520" y="3048120"/>
            <a:ext cx="8305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radon seeps into a home, the gas can be harmful because it continues to emit radi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33520" y="42130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eople breathe the gas over a period of time, it can cause lung canc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6524640" y="4238640"/>
          <a:ext cx="261936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4238640"/>
                    <a:ext cx="2619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8/0 – The Noble g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9"/>
          <p:cNvSpPr/>
          <p:nvPr/>
        </p:nvSpPr>
        <p:spPr>
          <a:xfrm>
            <a:off x="0" y="140976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All of the noble gases have a full outer shell, so they are very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0"/>
          <p:cNvSpPr/>
          <p:nvPr/>
        </p:nvSpPr>
        <p:spPr>
          <a:xfrm>
            <a:off x="0" y="2800440"/>
            <a:ext cx="73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all have low melting and boiling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1"/>
          <p:cNvSpPr/>
          <p:nvPr/>
        </p:nvSpPr>
        <p:spPr>
          <a:xfrm>
            <a:off x="0" y="348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exist as single atoms rather then diatomic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2"/>
          <p:cNvSpPr/>
          <p:nvPr/>
        </p:nvSpPr>
        <p:spPr>
          <a:xfrm>
            <a:off x="0" y="4152960"/>
            <a:ext cx="77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cc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Helium is lighter then air and is used in balloons and airships (as well as for talking in a silly vo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3"/>
          <p:cNvSpPr/>
          <p:nvPr/>
        </p:nvSpPr>
        <p:spPr>
          <a:xfrm>
            <a:off x="0" y="520056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rgon is used in light bulbs (because it is so unreactive) and argon , krypton and neon are used in fancy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14"/>
          <p:cNvGraphicFramePr/>
          <p:nvPr/>
        </p:nvGraphicFramePr>
        <p:xfrm>
          <a:off x="5338800" y="5126040"/>
          <a:ext cx="990720" cy="17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2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8800" y="5126040"/>
                    <a:ext cx="990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9:12Z</dcterms:created>
  <dc:creator>CIC1</dc:creator>
  <dc:description/>
  <dc:language>en-US</dc:language>
  <cp:lastModifiedBy>RomaK</cp:lastModifiedBy>
  <dcterms:modified xsi:type="dcterms:W3CDTF">2015-09-01T16:27:49Z</dcterms:modified>
  <cp:revision>7</cp:revision>
  <dc:subject/>
  <dc:title>The Noble Gases</dc:title>
</cp:coreProperties>
</file>